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551-C1E9-4487-BD1F-FB2A5255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2F3-3E7C-4929-9770-99A8608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E37-998C-4D30-987F-7CEC9305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A47-D075-42C9-93CE-F2904638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FD90-A199-4BFE-8306-EF4A355C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AEC0-D93F-402A-8E5D-F8DCC859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BAB1-704B-4404-8430-D8527D51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6D8B-97E5-4ABB-9F71-226D0CF6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15E9-4DCF-43DD-97DA-FD575ED6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F67DC-24B2-4D50-964A-9B850E98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5D41-80D0-42D0-8F96-CE3330C5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6B1E-0FB8-4EC1-A47F-3DB5AA20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DA2A-D7B9-48CC-B5A3-C20D6BAC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EFB5-BA07-4307-9021-74722F65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4963-8B5F-48FA-9C27-E3F2DB3E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A156-189D-4DC0-B16A-1089D31F8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711F-ED2A-43B3-BBA5-899C38A7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46A-DE92-44EF-A9D1-D3171B74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985-2A6D-42FF-9AE0-32956A26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2D1-F810-4363-92EF-5F604C46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7265-0718-4A46-9CDE-F38FD5E2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E27-F4FE-4556-8C03-F73FC8A2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9174-EB79-40FD-AD3E-121A956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277-CF97-4BE9-9107-B9E7E272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0ED0-BC15-41EF-A22E-080CB3E042C3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6FE8-293A-4B82-843B-A2BDD428897D}" type="slidenum">
              <a:rPr b="0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SAFETY UNIT</a:t>
            </a:r>
            <a:endParaRPr b="0" lang="en-US" sz="44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GENERAL SAFETY PROCEDUR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HPS Symbols</a:t>
            </a:r>
            <a:br>
              <a:rPr sz="44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Hazardous Household Product Symb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USEHOLD!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vels of Severity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Danger, Warning and Caution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11280" y="3500280"/>
            <a:ext cx="379116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Fire Safety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-A-S-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HHS extinguishers (AB C type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 A –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ombustible materials that leave coals or ash such as paper, wood, cloth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 B –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lammable liquids such as gas, oils or solvents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ss C – 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ive electrical equipment as appliances, electrical lab equipment, photocopiers, computers, etc.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Precautions related to Dissections: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working with preserved specimens be in a well-ventilated are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re vinyl gloves at all tim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o reduce the irritating effects of chemical preservatives, rinse specimen under running water to eliminate excess and dilute what remain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view procedure for cuts and punctures from dissecting tool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en cleaning dissecting instruments, hold sharp edges away from you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ways ask the teacher re: proper disposal of specimen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GENERAL SAFETY PROCEDURE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llow all instructions careful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perform unauthorized experiments.  Do only those experiments assigned by the teac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work alone in the laboratory, and never work without the teacher’s supervisio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ever eat, drink, smoke, chew gum, or apply cosmetics in the laboratory.  Do not store food or beverages in the lab area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pproach laboratory work with maturity.  Never run, push, or engage in horseplay or practical jokes of any kind in the laboratory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eep your work area clean and uncluttered.  Store items such as books, purses, etc., in designated area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ispose of used chemicals, matches, and living or preserved specimens only as directed by the teache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urn of all electrical equipment, water, and gas when it is not in use, especially at the of the lab period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now the location and how to operate all safety equipment in the classroom, including fire extinguisher, fire blankets, sand, safety showers, eyewash fountains, and first-aid kit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not use the sink to discard matches, filter paper, or other solid or slightly soluble materia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ORATORY APPAREL PRECAU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not wear loose-fitting sleeves, bulky outerwear, or open-toe sho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ie back long hair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ar safety goggles when using chemicals, hot liquids, lab burners or hot plate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ear plastic gloves when working with preserved specimens or with poisonous, corrosive, or irritating chemicals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CCIDENT PROCEDUR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port all accidents or injuries and all breakage or spills, no matter how minor, to the teacher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a chemical spills on your skin or clothing, wash it off immediately with plenty of cool water and notify the teac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f a chemical gets into your eyes or on your face, wash immediately at the eyewash fountain with plenty of water.  Wash for at least 15 minutes and notify the teac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lean up all spills immediately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Use a dustpan and a brush to pick up broken glass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HMIS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orkplace Hazardous Materials Information System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The 3 components to the WHMIS system are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S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orker Educ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abels on all Product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MSD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ored in binders in lab area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ll known chemica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8 section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ame, ingredients, physical data, fire hazards, reactivity data, toxicological properties, preventive measures, first aid measures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MIS SYMBO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371680" y="1862280"/>
            <a:ext cx="4400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WHMIS Labels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mpressed Ga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. Helium, propa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lammable/Combustible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methane gas, aceton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xidizing Material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Chromic Aci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isonous Infectious (Immediate &amp; Serious Toxic Effects)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cyanid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oisonous Infectious (Other Toxic Effects)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mercury, lead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iohazardous Infectiou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needles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rrosive Materials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degreaser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-609480">
              <a:spcBef>
                <a:spcPts val="4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angerously Reactive 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ex: pure sodiu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3:43:37Z</dcterms:created>
  <dc:creator>Matt van Raalte</dc:creator>
  <dc:description/>
  <dc:language>en-US</dc:language>
  <cp:lastModifiedBy>nbdoe</cp:lastModifiedBy>
  <dcterms:modified xsi:type="dcterms:W3CDTF">2008-01-31T13:26:02Z</dcterms:modified>
  <cp:revision>10</cp:revision>
  <dc:subject/>
  <dc:title>SAFETY UNIT</dc:title>
</cp:coreProperties>
</file>